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321-F933-4C6D-958E-F74486A4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603-99B5-4E14-8E16-9ECCA427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AD2-90FC-46FE-A021-A8DDCF90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4BE-3B4F-440F-8534-0F8FB3B8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3B4-1DA9-4E55-92B4-E2170A25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94E-4937-4DAB-B06E-5F428418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E9E-DB1B-4D38-8EA5-9B661BA9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F23-28DB-4093-A532-D2C3147F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73C-01F2-47B8-B2A0-078E7E2C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353-2E8B-4B0F-8E91-CEF31AB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919-7D85-44F3-AA65-C5300A4F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F94-3D1A-4D08-B5BD-286E7E8D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C0DA-5800-4144-8E3C-82316F80A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ne video in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bed” and widgets for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 must be register in gmail service or youtube (better in gmail, there is a very good post service and oth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 flipV="1">
            <a:off x="3851280" y="333360"/>
            <a:ext cx="2016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2133720"/>
            <a:ext cx="18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Tool for insert video or other wid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2195280" y="1197000"/>
            <a:ext cx="26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1052640"/>
            <a:ext cx="273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ing clik in “tv” icono open this window. You want insert one video ¿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in vide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72360" y="2421000"/>
            <a:ext cx="19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ually is Youtube vid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, can insert other, 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56360" y="836640"/>
            <a:ext cx="273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kicking in “youtube” link, open it and you can insert emb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BED IS HTLM TEXT ORIGINAL IN YOUTUBE SERVICE ABOUT MO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360" y="306864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08360" y="105264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his is EM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OU ONLY NEED COP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2133720"/>
            <a:ext cx="1225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56360" y="836640"/>
            <a:ext cx="273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w you must paste EMBED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s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AT’S ALL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932360" y="1557360"/>
            <a:ext cx="1511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3500280"/>
            <a:ext cx="4249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&lt;object width="560" height="340"&gt;&lt;param name="movie" value="http://www.youtube.com/v/mdW861NlHE8&amp;hl=es_ES&amp;fs=1&amp;"&gt;&lt;/param&gt;&lt;param name="allowFullScreen" value="true"&gt;&lt;/param&gt;&lt;param name="allowscriptaccess" value="always"&gt;&lt;/param&gt;&lt;embed src="http://www.youtube.com/v/mdW861NlHE8&amp;hl=es_ES&amp;fs=1&amp;" type="application/x-shockwave-flash" allowscriptaccess="always" allowfullscreen="true" width="560" height="340"&gt;&lt;/embed&gt;&lt;/objec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35:48Z</dcterms:created>
  <dc:creator>INFO1</dc:creator>
  <dc:description/>
  <dc:language>en-US</dc:language>
  <cp:lastModifiedBy>INFO1</cp:lastModifiedBy>
  <dcterms:modified xsi:type="dcterms:W3CDTF">2009-12-09T15:59:32Z</dcterms:modified>
  <cp:revision>3</cp:revision>
  <dc:subject/>
  <dc:title>One video in wiki</dc:title>
</cp:coreProperties>
</file>